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176-7573-400F-A546-8483623B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5D5-8E1A-4D8E-A35D-F4187634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B59-ABF7-4739-9BA9-976B57C4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DBC-CFAA-46EC-B63C-73E63A54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35C8-89F1-4BE1-B213-004B1204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26F2-5571-465C-8D82-7057FA4B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5E90-22F5-4684-9D7A-B86DAF12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05B2-EB45-4A06-9783-722AD6F2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9B7C-B4AD-448F-AC6F-44CE34D6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2F97-7C54-4C79-AC98-31BA5315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7637-FB5D-4CED-8239-BE16CF31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B97-30DE-45BE-8F56-4D9ED1A2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64C6-9073-40C4-9127-58ED3EA0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F913-AABD-4BE5-8AFF-A89C2BF2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AC6D-CE29-4D6E-9CAA-1A5A2D68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5C17-39F3-4A73-8846-E1D602BF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E99B-2D57-4D60-942E-642B59B4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A92-29C2-46EB-853F-8F70DD3E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A95-0020-4D21-B98C-2C9943F3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1DB-B5E7-45DF-BDC1-151F05A4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6DB-CB0C-413A-AD1F-7B25340B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B0D-15DE-40FA-8D99-20E7059C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3E8-C19D-46CB-8498-D82153CB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D3D-A7E0-435A-A01A-40673F0A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0371-E7A2-4C00-967D-EF9BA4A5CB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9D94-AC55-45DC-A35F-962E5114FF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My%20Videos/video.mp4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8000" spc="-1" strike="noStrike">
                <a:solidFill>
                  <a:srgbClr val="b9efee"/>
                </a:solidFill>
                <a:latin typeface="Jokerman"/>
              </a:rPr>
              <a:t>CONFLICT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43280" y="2133720"/>
            <a:ext cx="321480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Conflict Styles in </a:t>
            </a:r>
            <a:br>
              <a:rPr sz="5400"/>
            </a:b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Youth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570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ff"/>
                </a:solidFill>
                <a:latin typeface="Garamond"/>
              </a:rPr>
              <a:t>Teddy Bear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uppression, Accommodating, Lose-Wi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Act as though nothing is the matter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Put up with it for the sake of peac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tay cheerful, but refuse to talk about the problem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Often be cross with yourself afterward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Conflict Styles in </a:t>
            </a:r>
            <a:br>
              <a:rPr sz="5400"/>
            </a:b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Youth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92360" y="2997360"/>
            <a:ext cx="7005600" cy="33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ff"/>
                </a:solidFill>
                <a:latin typeface="Garamond"/>
              </a:rPr>
              <a:t>Shark –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Aggressive, control, win-los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et out to prove the other is wro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Refuse to take NO for an answer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hout them dow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Outsmart them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Lay down the law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26161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Conflict Styles in </a:t>
            </a:r>
            <a:br>
              <a:rPr sz="5400"/>
            </a:b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Youth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2349360"/>
            <a:ext cx="62024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ff"/>
                </a:solidFill>
                <a:latin typeface="Garamond"/>
              </a:rPr>
              <a:t>Fox –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Compromising, win some – lose som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Do what’s fair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Divide equally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Avoid a clash of will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Make concessions to keep friendship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Gain something for yourself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Give a bit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16016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Conflict Styles in </a:t>
            </a:r>
            <a:br>
              <a:rPr sz="5400"/>
            </a:b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Youth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79280" y="2565360"/>
            <a:ext cx="677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ff"/>
                </a:solidFill>
                <a:latin typeface="Garamond"/>
              </a:rPr>
              <a:t>Owl –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Co-operative problem solving – win-wi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I want to win but I want you to win too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I will state my needs and listen to yours too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Brainstorm ideas to solve the problem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Make concessions to keep friendship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Negotiate a mutually acceptable solutio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1782720" cy="2922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-22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Turtle – Denial, avoid, withdrawal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Lose - Los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Teddy Bear – Suppression, Accommodating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Lose – Wi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hark – Aggressive, control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Win-Los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Fox – Compromisi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Win some – Lose som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Owl – Co-operative problem solvi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Win - Wi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60804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747720" cy="747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68360" y="2592360"/>
            <a:ext cx="103176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26920" y="3716280"/>
            <a:ext cx="506520" cy="733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900000" y="4941720"/>
            <a:ext cx="55404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Jokerman"/>
              </a:rPr>
              <a:t>Constructive vs Destructiv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Constructive              Conflict              Destru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1. Establish real issue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1. Real issue never establish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2. Stick to the point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2. Don’t stick to the po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3. Try to understand each other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3. No attempt to understand ea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4. Don’t attack or hurt each other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4. Attack at every opportun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5. Be willing to compromise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5. Neither will compromi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Garamond"/>
              </a:rPr>
              <a:t>There are at least three ways of handling conflic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ffffff"/>
                </a:solidFill>
                <a:latin typeface="Garamond"/>
              </a:rPr>
              <a:t>Denial                          Aggression                         Assertive Problem Solv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700360" y="1916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35640" y="191628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Jokerman"/>
              </a:rPr>
              <a:t>Resolving Conflict - Bully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Garamond"/>
              </a:rPr>
              <a:t>Types of Bullyi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Verbal putdowns and ab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Emotional blackmail – pity trip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Spreading rumou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Isolating one pers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Physical abuse of persons 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personal proper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Stand over tactics/manipula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behaviou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Garamond"/>
              </a:rPr>
              <a:t>Some Suggested Respon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Building good self este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Use of “I” statem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Clear communic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Confronting assertively, no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aggressive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Developing empath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Respect for oth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Co-opera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- Power with rather than power 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348000" y="5373720"/>
            <a:ext cx="18064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691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Link to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059280" y="1916280"/>
            <a:ext cx="26049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b9efee"/>
                </a:solidFill>
                <a:latin typeface="Jokerman"/>
              </a:rPr>
              <a:t>Mediation Proc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Mediation is a PROCESS that uses a third person to HELP the people in a conflict to come up with their OWN solution for a WIN-WIN outcom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64000" y="4292640"/>
            <a:ext cx="18097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b9efee"/>
                </a:solidFill>
                <a:latin typeface="Jokerman"/>
              </a:rPr>
              <a:t>Remember:</a:t>
            </a:r>
            <a:endParaRPr b="1" lang="en-US" sz="5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The more you express your ideas and point of view, the more you CLARIFY your posi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Your voice has more choice”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1857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Hands up – Argument or Confli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Pairshare – One thing you are good 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- One way you deal with confli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- One thing I’d like to change abou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 wor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Brainstorm – What is conflic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b9efee"/>
                </a:solidFill>
                <a:latin typeface="Jokerman"/>
              </a:rPr>
              <a:t>What is conflict?</a:t>
            </a:r>
            <a:endParaRPr b="1" lang="en-US" sz="5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urt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Argu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ate                                         Disagre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Pain                                                                    An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hat are some other feelings you relate to conflic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068640"/>
            <a:ext cx="2592360" cy="14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4000" y="3429000"/>
            <a:ext cx="195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fli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403280" y="1989000"/>
            <a:ext cx="216072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211640" y="2565360"/>
            <a:ext cx="21600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580000" y="3068640"/>
            <a:ext cx="432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692000" y="3141360"/>
            <a:ext cx="1439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403280" y="4005360"/>
            <a:ext cx="17287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93372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b9efee"/>
                </a:solidFill>
                <a:latin typeface="Jokerman"/>
              </a:rPr>
              <a:t>Conflict VS Violence?</a:t>
            </a:r>
            <a:endParaRPr b="1" lang="en-US" sz="5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Conflict and violence are </a:t>
            </a:r>
            <a:r>
              <a:rPr b="1" i="1" lang="en-NZ" sz="4000" spc="-1" strike="noStrike">
                <a:solidFill>
                  <a:srgbClr val="ffffff"/>
                </a:solidFill>
                <a:latin typeface="Garamond"/>
              </a:rPr>
              <a:t>not </a:t>
            </a: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the same thing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Garamond"/>
              </a:rPr>
              <a:t>Violence is a CHOICE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51280" y="4365720"/>
            <a:ext cx="1143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Jokerman"/>
              </a:rPr>
              <a:t>Confli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ctual or Perceived opposition of someone's needs, wants or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Internal confli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Conflict between two individu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ffects people, sometimes in unpleasant w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Often affects more people than just the ones involved eg. Their circle of friends or teachers parents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Jokerman"/>
              </a:rPr>
              <a:t>Conflict Resolu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0040" y="2491920"/>
            <a:ext cx="822960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lict Re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n-win- both parties get what they want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n-lose- one party gets what they w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se-lose both parties don't get what they w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b9efee"/>
                </a:solidFill>
                <a:latin typeface="Jokerman"/>
              </a:rPr>
              <a:t>Confli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120" y="1714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sh of interests, values, actions or dire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ten sparks a conflict. The word is applic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the instant that the clash occurs. Even w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say that there is a potential conflict we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ying that there is already a conflict of dir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 though a clash may not yet have occur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0" spc="-1" strike="noStrike">
                <a:solidFill>
                  <a:srgbClr val="ffffff"/>
                </a:solidFill>
                <a:latin typeface="Jokerman"/>
              </a:rPr>
              <a:t>Conflict Styles in 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0" spc="-1" strike="noStrike">
                <a:solidFill>
                  <a:srgbClr val="ffffff"/>
                </a:solidFill>
                <a:latin typeface="Jokerman"/>
              </a:rPr>
              <a:t>Youth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48000" y="4508640"/>
            <a:ext cx="259236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b9efee"/>
                </a:solidFill>
                <a:latin typeface="Jokerman"/>
              </a:rPr>
              <a:t>Conflict Styles in Youth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ff"/>
                </a:solidFill>
                <a:latin typeface="Garamond"/>
              </a:rPr>
              <a:t>Turtle</a:t>
            </a:r>
            <a:r>
              <a:rPr b="0" lang="en-NZ" sz="26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0" lang="en-NZ" sz="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Denial, avoid, withdrawl, Lose-los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top talking, punish with silenc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Walk away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Sulk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Garamond"/>
              </a:rPr>
              <a:t>Become Resentful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1571400" cy="18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1:08:01Z</dcterms:created>
  <dc:creator>Ministry of Education</dc:creator>
  <dc:description/>
  <dc:language>en-US</dc:language>
  <cp:lastModifiedBy>Ministry of Education</cp:lastModifiedBy>
  <dcterms:modified xsi:type="dcterms:W3CDTF">2010-04-29T23:21:48Z</dcterms:modified>
  <cp:revision>22</cp:revision>
  <dc:subject/>
  <dc:title>Conflict Styles in Youth</dc:title>
</cp:coreProperties>
</file>